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5ABB-A301-4C9E-9EB0-BEAB29CAA6D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50920" y="698400"/>
            <a:ext cx="4653000" cy="3490920"/>
          </a:xfrm>
          <a:prstGeom prst="rect">
            <a:avLst/>
          </a:prstGeom>
          <a:ln w="0">
            <a:noFill/>
          </a:ln>
        </p:spPr>
      </p:sp>
      <p:sp>
        <p:nvSpPr>
          <p:cNvPr id="168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5403-7793-4283-9C47-502B552C75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50920" y="698400"/>
            <a:ext cx="4653000" cy="3490920"/>
          </a:xfrm>
          <a:prstGeom prst="rect">
            <a:avLst/>
          </a:prstGeom>
          <a:ln w="0">
            <a:noFill/>
          </a:ln>
        </p:spPr>
      </p:sp>
      <p:sp>
        <p:nvSpPr>
          <p:cNvPr id="169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4D9C-C4B3-46EF-96B6-EF7B43DB2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F17E-C28D-41A8-98D8-958BA7BF450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01" name="Rectangle 7"/>
          <p:cNvSpPr/>
          <p:nvPr/>
        </p:nvSpPr>
        <p:spPr>
          <a:xfrm>
            <a:off x="3940200" y="8842320"/>
            <a:ext cx="3013200" cy="46512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5A20F-DA53-473D-9DC7-AA2FAA21F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02" name="PlaceHolder 1"/>
          <p:cNvSpPr>
            <a:spLocks noGrp="1"/>
          </p:cNvSpPr>
          <p:nvPr>
            <p:ph type="sldImg"/>
          </p:nvPr>
        </p:nvSpPr>
        <p:spPr>
          <a:xfrm>
            <a:off x="1150920" y="698400"/>
            <a:ext cx="4653000" cy="3490920"/>
          </a:xfrm>
          <a:prstGeom prst="rect">
            <a:avLst/>
          </a:prstGeom>
          <a:ln w="0">
            <a:noFill/>
          </a:ln>
        </p:spPr>
      </p:sp>
      <p:sp>
        <p:nvSpPr>
          <p:cNvPr id="170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7"/>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715C-8EA1-4459-976B-ACA3FD4552B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705" name="PlaceHolder 1"/>
          <p:cNvSpPr>
            <a:spLocks noGrp="1"/>
          </p:cNvSpPr>
          <p:nvPr>
            <p:ph type="sldImg"/>
          </p:nvPr>
        </p:nvSpPr>
        <p:spPr>
          <a:xfrm>
            <a:off x="1150920" y="698400"/>
            <a:ext cx="4653000" cy="3490920"/>
          </a:xfrm>
          <a:prstGeom prst="rect">
            <a:avLst/>
          </a:prstGeom>
          <a:ln w="0">
            <a:noFill/>
          </a:ln>
        </p:spPr>
      </p:sp>
      <p:sp>
        <p:nvSpPr>
          <p:cNvPr id="170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50920" y="698400"/>
            <a:ext cx="4653000" cy="3490920"/>
          </a:xfrm>
          <a:prstGeom prst="rect">
            <a:avLst/>
          </a:prstGeom>
          <a:ln w="0">
            <a:noFill/>
          </a:ln>
        </p:spPr>
      </p:sp>
      <p:sp>
        <p:nvSpPr>
          <p:cNvPr id="170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B7EB-B958-4A59-885F-F1073F3FF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50920" y="698400"/>
            <a:ext cx="4653000" cy="3490920"/>
          </a:xfrm>
          <a:prstGeom prst="rect">
            <a:avLst/>
          </a:prstGeom>
          <a:ln w="0">
            <a:noFill/>
          </a:ln>
        </p:spPr>
      </p:sp>
      <p:sp>
        <p:nvSpPr>
          <p:cNvPr id="171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608E-8CD4-41D9-9AF3-7F743DEB8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50920" y="698400"/>
            <a:ext cx="4653000" cy="3490920"/>
          </a:xfrm>
          <a:prstGeom prst="rect">
            <a:avLst/>
          </a:prstGeom>
          <a:ln w="0">
            <a:noFill/>
          </a:ln>
        </p:spPr>
      </p:sp>
      <p:sp>
        <p:nvSpPr>
          <p:cNvPr id="171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F571-BE51-43B4-9070-69B9FF7B3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50920" y="698400"/>
            <a:ext cx="4653000" cy="3490920"/>
          </a:xfrm>
          <a:prstGeom prst="rect">
            <a:avLst/>
          </a:prstGeom>
          <a:ln w="0">
            <a:noFill/>
          </a:ln>
        </p:spPr>
      </p:sp>
      <p:sp>
        <p:nvSpPr>
          <p:cNvPr id="171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F2EE-35E1-48A8-B252-64D0AE12E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50920" y="698400"/>
            <a:ext cx="4653000" cy="3490920"/>
          </a:xfrm>
          <a:prstGeom prst="rect">
            <a:avLst/>
          </a:prstGeom>
          <a:ln w="0">
            <a:noFill/>
          </a:ln>
        </p:spPr>
      </p:sp>
      <p:sp>
        <p:nvSpPr>
          <p:cNvPr id="172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DBDA-C9BE-4A2D-883D-A2344D6C7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50920" y="698400"/>
            <a:ext cx="4653000" cy="3490920"/>
          </a:xfrm>
          <a:prstGeom prst="rect">
            <a:avLst/>
          </a:prstGeom>
          <a:ln w="0">
            <a:noFill/>
          </a:ln>
        </p:spPr>
      </p:sp>
      <p:sp>
        <p:nvSpPr>
          <p:cNvPr id="172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AB3D-C5CA-4A85-A86A-3A028D615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50920" y="698400"/>
            <a:ext cx="4653000" cy="3490920"/>
          </a:xfrm>
          <a:prstGeom prst="rect">
            <a:avLst/>
          </a:prstGeom>
          <a:ln w="0">
            <a:noFill/>
          </a:ln>
        </p:spPr>
      </p:sp>
      <p:sp>
        <p:nvSpPr>
          <p:cNvPr id="172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F59F6-B9F5-4744-BE7B-B084625C7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50920" y="698400"/>
            <a:ext cx="4653000" cy="3490920"/>
          </a:xfrm>
          <a:prstGeom prst="rect">
            <a:avLst/>
          </a:prstGeom>
          <a:ln w="0">
            <a:noFill/>
          </a:ln>
        </p:spPr>
      </p:sp>
      <p:sp>
        <p:nvSpPr>
          <p:cNvPr id="172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7EE2-823E-475C-9265-CFA37690C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50920" y="698400"/>
            <a:ext cx="4653000" cy="3490920"/>
          </a:xfrm>
          <a:prstGeom prst="rect">
            <a:avLst/>
          </a:prstGeom>
          <a:ln w="0">
            <a:noFill/>
          </a:ln>
        </p:spPr>
      </p:sp>
      <p:sp>
        <p:nvSpPr>
          <p:cNvPr id="168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99A1-B10C-49BB-949E-A6D8F5FE9A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50920" y="698400"/>
            <a:ext cx="4653000" cy="3490920"/>
          </a:xfrm>
          <a:prstGeom prst="rect">
            <a:avLst/>
          </a:prstGeom>
          <a:ln w="0">
            <a:noFill/>
          </a:ln>
        </p:spPr>
      </p:sp>
      <p:sp>
        <p:nvSpPr>
          <p:cNvPr id="168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09BB-5F3E-45E6-8433-9DF549E7B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1150920" y="698400"/>
            <a:ext cx="4653000" cy="3490920"/>
          </a:xfrm>
          <a:prstGeom prst="rect">
            <a:avLst/>
          </a:prstGeom>
          <a:ln w="0">
            <a:noFill/>
          </a:ln>
        </p:spPr>
      </p:sp>
      <p:sp>
        <p:nvSpPr>
          <p:cNvPr id="168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60232-7B1A-486D-B35C-E59C50B3A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50920" y="698400"/>
            <a:ext cx="4653000" cy="3490920"/>
          </a:xfrm>
          <a:prstGeom prst="rect">
            <a:avLst/>
          </a:prstGeom>
          <a:ln w="0">
            <a:noFill/>
          </a:ln>
        </p:spPr>
      </p:sp>
      <p:sp>
        <p:nvSpPr>
          <p:cNvPr id="169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823E-8046-42F3-BDAB-430D89F9C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1150920" y="698400"/>
            <a:ext cx="4653000" cy="3490920"/>
          </a:xfrm>
          <a:prstGeom prst="rect">
            <a:avLst/>
          </a:prstGeom>
          <a:ln w="0">
            <a:noFill/>
          </a:ln>
        </p:spPr>
      </p:sp>
      <p:sp>
        <p:nvSpPr>
          <p:cNvPr id="169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7342-F78C-43A9-94B1-ACD8F7173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34EE9-1A2B-466E-9A05-DF2352E4D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1F3A-B262-473E-AA63-78917CBD1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87D9BD3-4273-48DE-8F68-F3711C5DFA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E845E38-A886-4483-9C98-104B8D19D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4192A41-A222-4026-84D1-1D606A6BDC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639F4FF-632E-41F2-9AED-5C52946BE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F93547C-52BC-4D1D-A385-FD4985E823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5B8BC6D-060A-4830-96DD-F80943CD1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5C9284F-12D0-4C61-8B89-9BD85CC0D2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7FD7538-011D-439A-87B2-56E7B9551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066D54BB-B84C-49B4-B5FC-F8A2D3B1F8A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384EDC4-D8B4-4D76-980D-84BC1DC59EC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39E0C-AC09-4441-8C7F-95409016D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1460EF27-6A8A-4123-8EE5-6DEE4BA3DA7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AB46DB39-4B96-4280-A831-8BAA379248C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4FCC8C7-93D4-4492-BA1F-0E9C9DDC377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C072A0EE-D862-4A24-80E7-A85C8928498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53A15E0E-02D0-40D3-8362-8535E02B832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669DC6F-274C-43CA-8A57-15ECBF6574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04D27E3-974F-49D7-A77E-C891789ACBA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2C2AB544-9EFF-4546-8A41-C83A4C0C20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F2CB00B-43D1-4A51-B253-085A5AE2EF4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B2EAF9C-74D0-401F-8A63-8224AD2699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B010-79D5-4F6B-A927-1B5944077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8F97733F-BB1D-43AA-8B90-58979ACCD424}"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D3354E0-BD9B-463E-8E0E-66D6187F91C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7BFB34D-5B22-4208-B60E-BDDBD2AA872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3D47919-5716-446A-9AE8-D32857E0873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B666A31-53B9-40FC-A898-43CB3CBB634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5C59B42-ADDC-4A5D-9A6F-2C0DB787FAA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3D953D8-DD6C-4847-9BB5-AAC721C1D0D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68C73B7-7B90-4714-8B20-4A0C9AEE9B7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32C117-0619-49A7-AC63-85971C9DE16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AC31DDD-C17C-4491-9E09-322F5262028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31196C-AE53-4393-8DCA-1461E96FF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BF3754C-1162-4601-A0B7-1BA9BF2A8BB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C03B52D-C731-47AB-BD3A-DED061EE14E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37450AE-2E00-4A4F-9F4C-4DFDC948857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0637363-AF11-4B61-B17B-1185A43A8F8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775B493-9CCA-4A7D-9963-E9956FBF4AA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B4D0B1-2112-4F89-9DE2-ADDDC08AB48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5601CF9-A733-4E57-8A97-24EC189062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07C1A6-0B6E-4008-A920-A569D080BF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30ABF59-0FFB-459D-B9D3-3B93FC80C1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51D05E-7BDB-49DC-A35E-606A2711C9F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D1647-E872-4021-BF00-57AB3F9A0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1204DF0-174A-4F92-BAF6-5F61D54DB4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98058D-DB0E-4692-9055-DEDEE0D6C8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BFD52FA-D564-4BC5-A31B-07DF6F5D57A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00EE6BC-7F1C-4D0B-8E45-B5ECA4BC0AE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917F27E-6965-412E-BD9A-B0B90492BA8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2E13C1D-6017-44AC-B0BE-F9947774F9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536A43C-89B8-4037-BBBB-3C6E05DE6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B8F37AD-1E17-4360-A2E1-40CB223699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A5364D1-9145-4239-97B7-AD78F6D8D7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85884DF-6116-4E96-87CF-4F63347E2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39E26-E663-4CC4-8ECB-6DDADA85C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B76BC09-660D-4D78-8549-FCDFBBE7BB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DC390D0-780B-4782-BA8D-D569E98170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C97BDA0-0A4C-43A6-AE0D-7B497EB46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D984BAE-74B3-4548-A20F-510728F3F4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318FC72-3B2E-4EE1-B7FC-ECECCAE557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9912F02-7304-4C1A-9274-58ADDFDF5C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73E5C45-BF28-41A4-B63B-1281F3E495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4F67F3C-75CE-47A3-984C-B6D01182B0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7AFA23C-370A-4E03-AE6D-A8D14EFAE9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6C63B96-D15D-4009-AF8C-6B6DB6D137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64358-FD99-4088-90F2-A7DE0E2A0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1577BB4-0963-436A-9E9F-75FA671F50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AF426A-F3E0-42DD-96E7-C782D0516C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985B27A-A8D1-4FB1-A0A9-3FEB0D5FD2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0265FF2-C242-480D-9148-C178886AB2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171E0DC-C9C5-4D11-A50D-F3EDCD05A6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94B7A64-7A25-4F68-AA4B-290727528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F207F72-F58A-4321-8299-C2C0331832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FCFC634A-C08A-4201-9389-CA41CDCB53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86AE4B1-55F8-442B-8A42-D4C9017AC8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5AF4A98-EDAC-4ADF-B4AA-34D638145B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6CD5F-7815-4822-85A2-819D45DD2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0268F09-0DDF-4AFB-883C-BBC0FD2676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29905C2-6D9D-4300-AE97-540F13250C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C73FE44-892A-49CD-915A-D972570626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438FF4B-B3DB-4CC7-9087-C95358B89E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8D77E6-BE04-4D83-B8DA-5401398B17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D60B5B3-03EF-417D-96D7-D7D91797D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6B34EA5-78B0-4816-86C7-660CE35310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B45D0B7-9AC1-4DDB-A121-85CC22EF81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7C245BF-80F6-4559-8221-0E1EDD7964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D8A5EE6-A3E3-47A4-BC1F-3EF1EF7792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0CF91-35C7-4D9C-8816-EFBED964F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8AC1A0DA-9B6B-46A0-B664-B8578FBCE8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2A7D209-2518-4D43-B8B1-E104B48534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9072CFE-054C-40F6-B261-F1F5181A23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7D06D3A-8BFA-46CA-ABE0-093847D4C0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C6A5206-930D-4186-B9AC-72C5466A01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6BE6FBA-B117-4170-9C90-6E6DAD2B9C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5122E2A-088B-4E5E-8532-EA1537BF0C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B247A61-A4DA-4D73-B4F3-F16986A938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5D1CC5E-8251-43F1-B652-4831DD7479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C70F750-9405-4A16-9E30-274939238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9F2E4-6479-465E-8CEC-93F716D7F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68DF461-AC86-4686-8698-0030D77771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497E488-9534-4102-8786-DB22457C2F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F590398B-498F-4543-8F5C-2C0E3738A1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256B1F2-2A4D-4ED7-8C85-C689CD4389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D8D9B5A-46BE-4368-BA57-40957327E9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5598740-693F-4A15-842C-C9E3F7BDCC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742A49B6-140E-481A-BBBC-F65CD310CB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D59BCEE-D33B-49CC-B13F-838E543143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62AD360-4F83-44E6-9937-D8833093B5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51AD580-08D7-4EB7-8A6E-73434244B1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72B2-17F6-4548-B590-6ED9C427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B6B8D-3460-4491-830E-9A3943195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85DC203-7C62-41EA-8222-4E94EE3203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4528B5D-AF12-4112-A485-2931B2F849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1132416-2DEE-487E-B1BF-54576D0B05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FC76B8A-F959-4795-ADB5-6FF6571019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D129960-123E-4C7D-9ED0-EEA8608D6C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38F9D94-4648-4E59-9246-0D63E3EBB2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66521F33-8F1C-4C72-AF19-6F0C26B2A2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6438BAA-C686-4047-9038-3C3CD329A2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560DFA4-07D9-4EE0-84F8-B7AECF83A1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863332F-03A7-4298-B675-7EE478CE7A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561B9-B406-4EFD-B69E-313BC5B02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36ADD0B-0970-4438-9512-959DEE7DF6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38FC45A-163B-4D74-BD1F-4DDB8D39D2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EF086D7-AD8C-4D6F-9F6C-628E76A0E3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847F8D2-9911-4415-AE98-4D8B20A25F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60D4337-9D07-436C-AAAC-6682B94171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4F90E5E-6820-48E4-951C-BEBCC4FE14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8155694-09E0-4B3F-BDCD-F60D9460D3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CA1B7166-4389-49A8-9C88-0F4008E82D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2BE729C-6C00-4AD7-9A9A-596677AA9A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F4BC82E8-06F9-4B81-ABB7-1E179650C0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5DD39-C4C3-4E25-BCEF-9F6326B7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B69C028-1ED2-4511-90D5-349A114D4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644F134-2CFB-4C95-9304-880762E9A1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1201890-0327-49AD-873F-BE6E12D1BA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75F64FF-FFAF-41B5-83ED-55A2A89E3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F02CB7A-1D2E-48BF-8C14-E9D0D6EA3A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7EE472D-7B08-41A4-B71F-878FDD1869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2169440-52F0-4AB5-8403-A9F37FCBC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2EDF4C95-ECA0-422C-BFEF-2DC5C5A3B6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BA61773A-589F-453B-AAC5-FF5140AC6B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9C4FD22-0A10-4CF7-AF46-9672036E6F33}"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4A1D89-A83D-4F12-9BAF-CAC325A4A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0A30456F-848E-4142-B7DE-EAD1A36B030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699705B2-8151-49A5-990D-529937F8FF8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BACBE8BA-8D7B-4DCD-8622-34BF3503B52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1FF85E52-7022-4624-AB01-6843FAD5DA48}"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3CC8A7CE-BCEB-417F-BAD9-4666424958CF}"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0433B5A-2CA5-4FA8-BD04-E513A53177A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4459247F-BDDE-481C-9F35-E6F1C5FB2CB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5155FD6E-6812-44A7-818B-810C91A23C1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5ACD62D4-7E6C-49C1-93EC-E0AB6F49211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A1748E6B-C66B-48F3-BC8E-45947FCA6C9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F834B5-5323-4127-B5D3-900DF78E1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1E3F698C-5D3D-48E6-9344-A6D66C774E48}"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726DB6B6-BFC1-4A8D-B09A-06855564B651}"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6DB07FA3-5ADB-452A-AD2A-9426DE56EB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7979EC5A-7D89-4961-9189-49D234A7AF3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BF657664-13F2-4572-B62B-61ECC87BA56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4583467B-BA15-473E-AE4E-BAEC36FD1C6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C970C77A-5EED-4916-A79C-AA982AE1FE2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6367CAA-A52F-49EF-BCD4-6B5FA47DC73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F70D30A-E5EC-4680-9C54-23D0D532FA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37CFD6C8-850D-41AD-AC08-DCB2B082C96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0CD9FB-184D-483A-8418-C2C3A9E55D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70FDFF9D-71E7-48BF-A0AF-5D011DD2CE0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1972126A-11A4-4681-8CD5-18579B697D0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3D742C5B-B634-44D3-9BAF-C92B2F08F230}"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693B551A-FFA7-4F20-B50B-20F1606D536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5598B47A-1F5E-4F59-93BB-B0A87DD6CC0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0B845203-8ECB-46C7-AE77-D6704FB1AB9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DC76C1F-3577-47C7-BB0E-1B682C3978C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C4CA281-ABD4-4A0F-8ACC-C68FBDC1EA6C}"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B947748B-619A-407C-B3AC-0F5EDF8346E2}"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EAFCE365-C161-4731-8F99-38E8670242D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A1838-C7E2-4D66-BAA9-1659385B6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2F43EC1-CA25-464C-B6ED-23DFB6DC82E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DAA6560-C951-47D0-A7F0-FDABD864171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45B0DE7-0920-4F6D-8238-44BF3BC8D10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4D39350E-868D-45D0-8549-BF150E2C4367}"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86E27EB-5C56-4E23-85C2-6BEB2E772DA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8F8E137D-713A-424C-98AD-50843029628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155DA41-37D6-480B-998F-A0D877BE8E7E}"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5B282A8-9B10-4226-B6D6-7C5E2E48C585}"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D20FFE90-3B83-49EA-BCC1-7EDCDE6A241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D1BDB1C5-6D9F-4F6B-980E-014DE010CE14}"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4D9FB-C1F8-476A-AE10-FB27A7F67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B75F00F6-10CA-42E9-AE77-8CF63C36F42E}"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EA51F87-58B2-4EF5-B27D-4A1279ABEA6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47631890-6CC5-416A-81B6-D68916B418A5}"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7E40A20-5B13-4BDA-A572-A1365091355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85EB4D4-F3E1-4184-87FB-E148EEAAD146}"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48A84E2F-B407-46AB-BAA0-1DA77BCCBDC2}"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AC34E291-6EEE-460C-9F05-7077D87201A8}"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5EC31C9A-0218-4465-AED3-E3E787262F55}"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B714D13D-4B49-4639-ACCB-58F101D09AD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4DFED05-5251-4A69-9224-656B03AF7999}"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52055-E2C3-480F-A218-7F0BCAE04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5BFDA89-A6F4-45BC-8D2A-0A298EA3E8B9}"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4FED0BB0-9FD3-4909-ADD3-41ADEE094DA9}"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7433D40-1E8C-4CE3-B06F-337A0C14BF8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EAF8612-B355-40AF-942C-8EDDFF4DB8D0}"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CC63739-55D0-484D-A5C4-858680599A4A}"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8244A42E-AC9A-4811-9ED5-B24C18A7FBE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EB065B3F-F275-4006-9586-0E8A7F1146AD}"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2F4A2E33-077A-4407-B10A-E4D67F82DAE6}"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9D0EEDC0-159F-4B6B-ADF5-7FB809EFEC99}"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27963FC3-5247-416D-8AD9-7C18C3F4CA0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44236-FFFB-43D9-A9FE-BF96F6FB7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D3406CC-B200-4877-8F89-D3AB1BF4230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39F8C7A6-958A-4E89-B09B-E4104839D16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6A523D2-3D8A-4C22-B31F-B79B9318F256}"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4983B9A0-47D4-43B9-B2F5-E997F742D6E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B7B5747F-0E52-4E74-8288-C2115F80D16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B5B4FA5-2898-4D4F-95BF-1FC903DD52DD}"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0032B540-6A87-4F33-8FBE-7D640A6320E9}"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98D3CDD-02A0-43C0-8F45-65385FAEACD2}"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ECA936B-EE9D-4C42-A91B-38BF9C0899E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EE7C3511-31F2-4F40-ACD7-37F2082B7DC1}"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1AE2-658A-4233-8D65-D2AFA0C6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60D0E-2329-4FB8-93C4-A69294BF8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2BD9D690-025D-4B15-8BBC-B1D4FD5651F2}"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439833E5-E717-4AD1-94D1-746D311FAAE6}"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9772818-9D40-44C5-97FD-D3648719FDE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54999C29-E851-4C1F-83B5-ECFA1773368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02B1FC9-2226-4F45-8ED3-B42D8ADDA62A}"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93EDCFA2-4BE3-48EE-B978-DBE3A388A653}"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FB16D8E8-5B63-4364-B459-A18D92CFE205}"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8070B947-7C84-4A96-8646-C88368854BD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5223651-40B4-48DC-83E1-475C54217E5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1BFBA67C-6C1F-4085-AF0D-76D81D1A5AF0}"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EC3489-3A46-40B0-9CA0-1A9B8BEEA5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C5AC1332-CBF2-4411-8D29-D563F14A2836}"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D4CBC058-C711-4043-881B-1273A1CD9086}"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466001C8-524A-45BA-B15B-5D1C3C64BB41}"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9C678F60-C085-44D4-9456-01E9CC306D96}"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3256B416-AE92-433F-93CF-EB5FC68F3B9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C859A06B-0FC5-4CF9-BDD9-19A6EEB6620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F974076B-85BF-4291-A0B3-FCE38E30FAA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D19D8F47-886D-4902-A2D3-BD03E7F31CF1}"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AB805E53-664E-4ADB-8075-4AB1B7818C09}"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4294D0F5-564F-4A03-AA36-DD63292AA6E0}"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556B7-9B44-40F4-B7B9-503E535D4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6AEB74E2-EF72-4E7A-93CC-144F8A9F9FB7}"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9425EE40-8BD6-46E0-81D1-611B4F34474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6DAF17AD-F138-4F6B-888C-17041E9BA8F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3874E0A8-6285-42D4-9995-12EB93FE45CF}"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E77FC8DC-BE43-4F14-8785-2C292FCB68C6}"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336B3F41-D70B-4BD3-B7EF-27D5A2734A4F}"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264237E8-1423-4598-BF2D-A90E1CE105E5}"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F797EF00-2288-42DC-BE32-86195F239637}"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DA9EEB4A-65F5-4F8A-8CA4-309E3B93D99A}"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FCA1C6E5-1932-4ED8-A4E4-DE8DD5F06CD2}"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99FB4-46AF-497B-B298-AFB6E92A5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476CE232-F1C3-414B-A351-B1997A9A6C89}"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5B27D75D-813E-4C73-94F4-56300B5264F3}"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253D79A0-1036-48AE-B710-D67B5A24DC1D}"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DE1AB03-EBD2-44D1-B1DC-108C367D0202}"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4193A83-F301-4CED-9934-6586946AE40B}"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9C570A27-D994-41A6-9E39-241F0B06D761}"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5C47989-2983-433C-B58E-4186830A4A38}"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EFCBD2E9-A525-4F26-BD5C-006BD2C9A100}"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77A8AAC5-F0C8-4892-B48D-F5935249F562}"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23B279F9-58A3-43D3-B1FE-ED2320AF9A2A}"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2355C-CB75-4F1F-9AE5-DB7D03253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820D7CF7-0046-4548-ABCC-46145BD8E3A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339F4F6F-DDF5-4A39-9688-62BE99245891}"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F209FB6A-04A6-4CCB-9C91-224E15152CC0}"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ACEA12D1-F233-4685-8457-B2386EB66A69}"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18D31742-41F4-493C-9526-5E0839CCCD82}"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2516DA4E-88A3-4738-A4AC-77985F780328}"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510D8A4B-7089-4818-A45C-AE34395464D4}"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60A04AC8-5584-41C2-886C-599E72695616}"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E1B45A25-F37B-4268-90E4-1621773CA38C}"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813332C3-DA8D-4899-9673-FA7B7DFBFE45}"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DA22C3-AF4D-4D4F-9E5A-CF31250F74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9A09B95C-666A-4E26-8DE6-6C9F3EA52435}"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8B5B0C60-94EE-4572-9B20-8D371B7697A7}"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6A488AFF-825F-463B-B1DB-A6D62E74AA09}"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203BDB67-434D-4B25-BE8C-23BDF523564F}"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330D5C87-0BA3-49F1-9EE6-3F7FEC8F16B7}"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04E70F9D-8B16-4B7E-9AC9-FAF079496E6E}"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C6A189D4-F0F1-4678-A560-A39442AFF899}"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9A20983-3DCF-4084-BAFC-ADA7B586484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AE71F53-29BD-47B7-BA1A-480FC023DACA}"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34609EBD-7965-49C7-8E6D-5E43A38CB1ED}"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11237-1642-47E4-997F-63D16E28C6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6D828372-5FBB-4655-A232-A53D3CD26F9A}"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1690949C-A209-4C2A-B484-90DDF216D364}"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7C114D60-A172-40B1-93FA-A99EEEBC39EB}"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2A903B2C-FF2B-4961-B75F-B7AF4F4F5744}"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8279106F-0952-40C9-8246-4CCE62A5F287}"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BCE9D7D0-83CF-4AEB-A082-A5E2D4F276C7}"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A2342C13-1ABD-4BB5-9076-B1E2AC99CFE4}"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ED269C14-9E3C-4FC8-BB2C-74EBEE780E2B}"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8C05C130-7BB6-4A47-A974-BFB487C8D810}"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BDAD7DD4-0C22-4380-933D-25A58F2DCFA3}"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370562-5C75-4BCA-A394-87DC2AC2AF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78D49F81-E3EB-431C-93BA-9A74955AE73C}"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5B3EB53C-9FB9-4EDD-8133-3280279B294A}"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7FFD3A4C-60EF-46E6-A11E-82504FDD5B89}"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843D4591-164F-4F6A-8F2D-D5029BBD9D4D}"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18D253D-4F3F-4E3F-A614-AFC6A581F133}"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4C098AD0-0F99-44D3-AF50-B55ECD67679B}"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BA0E9D7E-7CFE-4D82-BB2C-DD0BA7DA3280}"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BDBAA07-2A06-438D-9202-1C4FFEBF7EED}"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A2B368D8-9E3D-47FC-AC9D-84702C0F664B}"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377C5A86-5F59-4F23-8685-D787CA68F57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FBFC0-29DC-4BC0-8DF3-C92A05769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1B0F1865-222C-4F31-8468-1DB60D9C752E}"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5B8CBBF-B47A-4690-9AE3-523452A840D9}"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482E61D7-D754-4463-83E2-EC9DD0AF633B}"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A12EC80A-AAA5-4B2A-B8A1-2C1653B1CDA9}"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7CCBC374-4A4C-4C87-86EE-29E4518F2796}"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8693B562-76F5-4088-9366-1A89F1353D16}"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499F13AF-ACDB-4D3D-BDC1-DDA599D24E56}"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6B460E21-721A-4AF5-9595-105EB53E73F4}"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E33E66C1-FB28-402A-B0AB-7AF447D71B9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52FA80B7-2073-47A4-8F94-2ECE7D23D350}"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B0042-BC8F-4447-A55C-E7863AC7B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66C052C4-431D-4EF4-8DEE-3BED992F7CC1}"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40822121-DC0D-484A-B65E-872DEE95EC3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4342BE20-CC7D-44A4-AD38-87B3096AEE42}"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1FE2987-C49C-4260-87BF-70134258F17D}"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0A06E5BB-45E9-4394-BB09-B5196E407BB8}"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0E2F88E3-9E8E-4898-84F0-6AD37FF58B2C}"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DC188095-A1DC-4C90-A3CF-CCD963FD1B61}"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8BCCD25B-57D5-458B-BCDF-DCEF9B3072AA}"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99669A98-D3F1-40DF-9A68-827EA4455531}"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037DB815-FAB4-41B2-8FDD-5D244E70239C}"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03100-F1C1-4C4A-AEC6-EDDCCB535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91C85-7DF5-4B3C-807C-0926594E5C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0469DC71-A67D-4A3F-8F3C-D939DA7D2027}"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8A4099C7-B1A8-4736-ADBE-A973FC55FB50}"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FF3AFA53-4251-4B45-BA54-67E6C60CCB38}"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38A69B2B-FF0B-4A1A-8888-FCEE79B7D0BF}"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90C00A9B-7029-467D-B45B-4FC4563AB7A3}"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D2177287-6E71-4F00-967B-73BDD9455AAA}"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91249106-A9DB-4E61-9176-BBA7F1BFC1C1}"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A2FDD5ED-297F-48F4-8C3D-A7769A31E2E1}"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E0BED856-8F3A-4539-8B24-B7C2D11CBA26}"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ED9C1B16-DDD8-49AA-B599-FBDC790C7F4F}"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FD83F-9329-4DA6-9F0C-52EC831DD0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2A38041D-F7FA-4C41-96F5-3A8CB1499489}"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716C4E34-9044-46DA-AE65-2FBB4C0E219B}"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2AF984BA-5BB9-4452-918F-6B4AFDC3BF02}"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F79B9A09-3D2F-488A-8FE7-6AD834808F50}"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6445C51-15DA-45F8-B9F8-460BDC976A4A}"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17E9B6FA-BF17-416E-955D-4B73BED8784D}"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5E279FE2-F623-43C4-AC29-B208A2267CDF}"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ECE3F0EA-9773-4D39-8B2E-1FE3E8AE1F4B}"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CEAF4AF8-5996-4162-B7F9-DCE17AC5F06F}"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03157581-2519-483A-A7C3-E40FBAE87ACE}"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1E683-7877-4245-A50F-5796CE3EA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C89FBF15-3C9B-48E5-B905-C318EAC4B48C}"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D240EE8D-B01B-453F-92BA-08B26946BDBB}"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FF5EE2F2-6DED-4948-97C5-F587EEAC6F39}"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ED093DA4-1D59-44A7-B36D-B6471AE156A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28D11BC4-3174-4830-A481-D5AC843B3B67}"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7F7485D-7503-4384-91BF-F1E3948EF465}"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B459F66A-1C02-4C2A-AA73-19862AABACAA}"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61A15133-A813-421A-B762-3BC18CFCCA26}"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C0F0523B-65BC-4A42-99C5-56BEF0169C99}"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E207F86B-6754-4E4A-A751-0FA41627D783}"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07931-91D4-43FB-BBFE-6CE4FF207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9B19C6D1-58DC-4D8A-8B98-C5E129246A5F}"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9D4CB642-0A33-40F3-9473-87471CBD07AD}"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4D2C3DDB-D02C-4D95-931C-C7A544055393}"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FF899135-BFC7-47FD-A135-E020FF99922D}"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DBDE5292-74F6-430A-BD1F-AE119D58E41F}"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47976DE-28BE-4325-9F6E-4CDAF55F3F50}"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B1A915EA-D040-4A21-9009-8029E40D33C2}"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61FFF2F6-9FFE-4E5D-B960-BBFD561C9D15}"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1D03BFF9-637F-4A52-BD24-2F3E9B204FD3}"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B5B38BBA-8527-40C9-B978-3A31DEEE52C7}"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5ECAF-072C-435E-8837-66D42603E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20BC4AE6-5FE5-4C74-A795-39B7723C61F5}"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8A2AEE0E-D308-421D-BC2D-A13EA2B7C26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DD59F209-55FC-40D1-A7D4-A34921EE56EC}"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35EACAEF-49EE-4060-88E7-BF94FD6A06FE}"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DDD359A8-B50A-45BD-830A-C61F0E815D6C}"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40E0B5B4-1F21-4E1E-91C2-EB6017E1C842}"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04B49904-5E16-4BEF-AD68-8CBF2498119F}"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59C162FD-EB2D-4714-861A-CF7DE7463A90}"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BBAB5777-6CB4-4A94-8C61-A5BBC6AD8CAB}"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F4663D3F-4F64-4E35-AD60-4290552A88C4}"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1E29E-0CE5-449A-92B3-DCAD2CDAE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D07B8FD7-FF21-446D-AAF6-814C7637078C}"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73378D6F-2CF5-4E15-9B3A-209748BE0FE1}"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27C965A-3612-4AF9-B096-58069E34BD2C}"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BCADE2DF-84E4-4BDE-8DEB-4D0C3CEB86C8}"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8AE6690A-0F7A-4C40-83BA-4F3FC01DB3F0}"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F1C2B308-8076-4432-A4B9-67740C7A7BFC}"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52A03722-AAC5-4589-87EC-E54E269DF49A}"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3865F384-E74F-4D10-B420-C248F081A678}"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84DD840C-098C-4154-AB07-5D18B1FE13BD}"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EB74DA5A-2FD2-4BA7-852E-2833B7485A04}"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A7855-59D9-4C62-A465-80DAAF583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87176C73-4C01-4191-BE64-09E759068743}"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C872B5E-DC0F-4DAF-B6F6-2C5437498E77}"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5C65170F-F1AF-4EC2-B741-20397CCE8561}"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C57DF4B2-70E4-45BD-BB77-2BCAAC44B305}"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3EDF9D4A-E1FD-4ADF-B18E-4CDF9EA71BA5}"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52F7BB3E-5C22-491E-BD02-67A629423039}"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040EA0E2-1151-4EC1-AB9D-CEAD47FDA10F}"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0A928428-9FF1-45D2-8EB6-8AB38A04A51E}"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052AC6FA-016B-44D4-9201-59ED618B3C81}"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5C6A7D83-4F5B-4E2D-BC59-756D948A7036}"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7408E-2528-461C-AB1F-109F516FFB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FC3A239C-A00E-4B94-81D8-0B648B8763B5}"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9083DFDE-2CB7-4373-9DF2-D30B24509C21}"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0D16F182-F9AD-4134-BD3B-54A652F46379}"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E46D182A-DBCB-4BE7-B5A4-F0F63D66118A}"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D96C10A2-54CE-4393-B15F-79ACCDAB5DBB}"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94F82BB-2D42-49D8-8E3D-DF46FCDA9EA8}"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0E8A69A-DB1F-4BA4-9DAA-4FEDDCB43F35}"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58A8FC80-D016-498D-9254-DA39D9A63A21}"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693A1E89-C88E-4367-8157-412DF105CE20}"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AB19CDCB-FF5B-4FBA-B683-7EFBDF9F7D23}"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0B0E6-543E-4697-B897-3CD4542309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FAB7DAAF-92B8-4DF5-922C-38853ED6C152}"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9DA83-E0B0-45DC-AF4E-3C3135501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82A3A-7153-4F88-A85B-9040845D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5152-28CC-480A-B337-6DBE2E200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66FEDE-71EE-435B-B465-79C742F7E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BD43D-C090-4352-8362-0443E4F6F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1DA24-46B2-4794-95AC-B476CF5E16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C6FC50-9E9B-4C21-99C6-D4F6929E8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EEAA04-BFC4-4AB4-A872-6F4DA52CC8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F69D7F-073E-4C5E-9F7A-A3E02D522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4FBCF-548E-4F7B-8D8A-D72FEE21E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6357-B8D1-4FA6-BDBB-470076FBD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6C8328-53BE-41BE-90E0-BD093369F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97DF3A-8147-43A4-8BDD-2FE7C9BAE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41BC1E-DD33-4B5E-9DE8-A0F9EEFF6E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2ECBAD-D29A-4715-AABE-1CDA3F695D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8F1C0-A748-45EE-BA54-EE4D9F91B8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8DEB7D-E271-4CA8-BD69-D56D9F65B8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7F2BA5-62C0-4B5F-B359-A811845EA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8E71C7-52BC-41B1-8C82-BB08A4E84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BCE899-2B49-4089-90E9-4C7D5C3293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602576-0B39-4B24-B594-7E831DFAAE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4932-0DA7-4023-B6C9-8E9A5FE0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6557F2-F537-4B13-83D6-198CCC2E50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9A429C-5D82-4308-8649-29792C562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D9E57-A912-4671-A261-DEEF60228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0DE6D-BDF3-4482-B086-A79CBF6DC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5A3C8-8DBB-4718-AF4C-60891B0A54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B908D3-87B7-476D-8261-ADDCAB1A43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739290-9E34-4300-8A23-E2E95E0608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E622CA2-A116-4A7A-8EBA-CCA7C55AFA7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7CE2406-3061-4C93-97E0-E6B31686D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89C33E8-EEA8-45E0-898B-803EE356375D}"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BBEE-915C-4C14-BA15-D34A7ED237BA}"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8FD8-2857-424C-A422-C8E15E456D2C}"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0F5F-4467-49BC-BF40-CEF0E5F08DB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8258-690B-42FA-A500-E36DD35A193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55BC-D4DA-4C0F-83DF-78999909916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C028-642B-4BB2-AAF3-DDEC96F3768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B1CD-6AFF-491E-979D-C48DF7486118}"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A713-BF59-4009-B2A2-D6771AE2E4B0}"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B5D1-BA58-48D6-8A4C-644723EF385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78A9-1DD7-4D4E-B1B8-3CD6946C31F2}"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A39E-D861-4EF4-8DDD-D19225EABE30}"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1A4E-EEB9-4E63-A5E5-25B5DF0E1029}"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61BE-51D3-400F-B16E-66DA7A845738}"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78C92-DED0-431F-9653-C4F6B5B80BF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66B9-88FD-4C2C-8B92-2994B5E61C4F}"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B464-2FD7-49BC-BE14-9C1F2DE6FD9D}"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7FD2-CB30-483B-A9C8-B162D8A7C25C}"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3C7D-B1F9-4E47-9991-27ABD6DB024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360F-E7B9-4A58-B0A3-1277A1C1BCF8}"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9352-FD06-4CE5-8C17-2658467914A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3554-86BE-4559-A2D2-9764E735A184}"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9448-F60D-49B1-A04F-C505655D3F2A}"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5E0D-0FD6-4A48-A5D3-AF9933BADF67}"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B5A1-F5A7-412B-9D0C-716E44F501C4}"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9EEC-5654-4270-BD87-DB2C917F4411}"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9C71-1228-4CF4-BA34-B4E96C28EE68}"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B6A1-F7F2-4014-BE0C-4E44E3ABFB05}"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85EB-CA45-4841-9CC7-8A89704FA72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1889-1988-4489-8D4E-4C2FDF16EF51}"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A8BF-AE0C-4E5C-B181-C95726809D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B576-CEB1-46B2-86D0-208F9A99F22F}"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C7F8-4691-43D4-AB84-7DA694D68E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CB3A-597C-485E-88F1-9D2AAF5141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833B-1D0F-4BBB-B64E-2B06B6DBE63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5BE0-F3AC-47A0-916F-B72AE1DDC8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9038-3CA4-48C4-A222-E81FF6C039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B170F-957E-47D1-AD6D-B520C8C6D2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9455-0A9F-47E6-BAF0-6A09F68336C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6F87-1882-4F21-8185-450E881604B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B624-86DB-489A-A46B-B40A58C75369}"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A51F-FD5B-432D-A4AF-23A8279D9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9117-CBBB-43A6-B820-134A21F46E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3FB6-5F95-4B18-97AC-37022064A26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2488-21F9-4BBA-BA07-770C27FBF5B7}"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2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hyperlink" Target="https://mxweb3.media-x.com/home/ncval/demo/" TargetMode="External"/><Relationship Id="rId3" Type="http://schemas.openxmlformats.org/officeDocument/2006/relationships/slideLayout" Target="../slideLayouts/slideLayout3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ubTitle"/>
          </p:nvPr>
        </p:nvSpPr>
        <p:spPr>
          <a:xfrm>
            <a:off x="1371600" y="4191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0" name="Picture 2" descr=""/>
          <p:cNvPicPr/>
          <p:nvPr/>
        </p:nvPicPr>
        <p:blipFill>
          <a:blip r:embed="rId1"/>
          <a:stretch/>
        </p:blipFill>
        <p:spPr>
          <a:xfrm>
            <a:off x="0" y="0"/>
            <a:ext cx="9144000" cy="607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6705720" y="6095880"/>
            <a:ext cx="19047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6829-1C20-4768-A51E-65EC96306516}"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32" name="Rectangle 2"/>
          <p:cNvSpPr/>
          <p:nvPr/>
        </p:nvSpPr>
        <p:spPr>
          <a:xfrm>
            <a:off x="45720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Times New Roman"/>
              </a:rPr>
              <a:t>Performance Rating Scale</a:t>
            </a:r>
            <a:endParaRPr b="0" lang="en-US" sz="4400" spc="-1" strike="noStrike">
              <a:solidFill>
                <a:srgbClr val="000000"/>
              </a:solidFill>
              <a:latin typeface="Arial"/>
            </a:endParaRPr>
          </a:p>
        </p:txBody>
      </p:sp>
      <p:sp>
        <p:nvSpPr>
          <p:cNvPr id="1633" name="Rectangle 4"/>
          <p:cNvSpPr/>
          <p:nvPr/>
        </p:nvSpPr>
        <p:spPr>
          <a:xfrm>
            <a:off x="9000" y="509904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veloping</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34" name="Oval 5"/>
          <p:cNvSpPr/>
          <p:nvPr/>
        </p:nvSpPr>
        <p:spPr>
          <a:xfrm>
            <a:off x="1981080" y="504504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Oval 6"/>
          <p:cNvSpPr/>
          <p:nvPr/>
        </p:nvSpPr>
        <p:spPr>
          <a:xfrm>
            <a:off x="1981080" y="14079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Oval 7"/>
          <p:cNvSpPr/>
          <p:nvPr/>
        </p:nvSpPr>
        <p:spPr>
          <a:xfrm>
            <a:off x="1981080" y="260676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Oval 8"/>
          <p:cNvSpPr/>
          <p:nvPr/>
        </p:nvSpPr>
        <p:spPr>
          <a:xfrm>
            <a:off x="1981080" y="3798720"/>
            <a:ext cx="685800" cy="689040"/>
          </a:xfrm>
          <a:prstGeom prst="ellipse">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Rectangle 9"/>
          <p:cNvSpPr/>
          <p:nvPr/>
        </p:nvSpPr>
        <p:spPr>
          <a:xfrm>
            <a:off x="3240" y="388476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ficien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39" name="Rectangle 10"/>
          <p:cNvSpPr/>
          <p:nvPr/>
        </p:nvSpPr>
        <p:spPr>
          <a:xfrm>
            <a:off x="10440" y="267804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ccompl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40" name="Rectangle 11"/>
          <p:cNvSpPr/>
          <p:nvPr/>
        </p:nvSpPr>
        <p:spPr>
          <a:xfrm>
            <a:off x="10800" y="1463760"/>
            <a:ext cx="203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tinguish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41" name="Up Arrow 12"/>
          <p:cNvSpPr/>
          <p:nvPr/>
        </p:nvSpPr>
        <p:spPr>
          <a:xfrm>
            <a:off x="2208240" y="1031760"/>
            <a:ext cx="228600" cy="4572000"/>
          </a:xfrm>
          <a:prstGeom prst="upArrow">
            <a:avLst>
              <a:gd name="adj1" fmla="val 100000"/>
              <a:gd name="adj2" fmla="val 57870"/>
            </a:avLst>
          </a:pr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Rectangle 13"/>
          <p:cNvSpPr/>
          <p:nvPr/>
        </p:nvSpPr>
        <p:spPr>
          <a:xfrm>
            <a:off x="2743200" y="48960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adequate growth during the period of performance, but did not demonstrate competence on standard(s) of performance  </a:t>
            </a:r>
            <a:endParaRPr b="0" lang="en-US" sz="1800" spc="-1" strike="noStrike">
              <a:solidFill>
                <a:srgbClr val="000000"/>
              </a:solidFill>
              <a:latin typeface="Arial"/>
            </a:endParaRPr>
          </a:p>
        </p:txBody>
      </p:sp>
      <p:sp>
        <p:nvSpPr>
          <p:cNvPr id="1643" name="Rectangle 14"/>
          <p:cNvSpPr/>
          <p:nvPr/>
        </p:nvSpPr>
        <p:spPr>
          <a:xfrm>
            <a:off x="2743200" y="37321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monstrated basic competence on standards of performance</a:t>
            </a:r>
            <a:endParaRPr b="0" lang="en-US" sz="1800" spc="-1" strike="noStrike">
              <a:solidFill>
                <a:srgbClr val="000000"/>
              </a:solidFill>
              <a:latin typeface="Arial"/>
            </a:endParaRPr>
          </a:p>
        </p:txBody>
      </p:sp>
      <p:sp>
        <p:nvSpPr>
          <p:cNvPr id="1644" name="Rectangle 15"/>
          <p:cNvSpPr/>
          <p:nvPr/>
        </p:nvSpPr>
        <p:spPr>
          <a:xfrm>
            <a:off x="2743200" y="2573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ceeded basic competence on standards for performance most of the time</a:t>
            </a:r>
            <a:endParaRPr b="0" lang="en-US" sz="1800" spc="-1" strike="noStrike">
              <a:solidFill>
                <a:srgbClr val="000000"/>
              </a:solidFill>
              <a:latin typeface="Arial"/>
            </a:endParaRPr>
          </a:p>
        </p:txBody>
      </p:sp>
      <p:sp>
        <p:nvSpPr>
          <p:cNvPr id="1645" name="Rectangle 16"/>
          <p:cNvSpPr/>
          <p:nvPr/>
        </p:nvSpPr>
        <p:spPr>
          <a:xfrm>
            <a:off x="2666880" y="135396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sistently and significantly exceeded basic competence on standards of performance</a:t>
            </a:r>
            <a:endParaRPr b="0" lang="en-US" sz="1800" spc="-1" strike="noStrike">
              <a:solidFill>
                <a:srgbClr val="000000"/>
              </a:solidFill>
              <a:latin typeface="Arial"/>
            </a:endParaRPr>
          </a:p>
        </p:txBody>
      </p:sp>
      <p:sp>
        <p:nvSpPr>
          <p:cNvPr id="1646" name="TextBox 18"/>
          <p:cNvSpPr/>
          <p:nvPr/>
        </p:nvSpPr>
        <p:spPr>
          <a:xfrm>
            <a:off x="7010280" y="1828800"/>
            <a:ext cx="2057400" cy="3111480"/>
          </a:xfrm>
          <a:prstGeom prst="rect">
            <a:avLst/>
          </a:prstGeom>
          <a:noFill/>
          <a:ln w="381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t Demonstra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d not demonstrate competence on, or adequate growth toward, achieving standard(s) of perform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res documentation </a:t>
            </a:r>
            <a:endParaRPr b="0" lang="en-US" sz="1800" spc="-1" strike="noStrike">
              <a:solidFill>
                <a:srgbClr val="000000"/>
              </a:solidFill>
              <a:latin typeface="Arial"/>
            </a:endParaRPr>
          </a:p>
        </p:txBody>
      </p:sp>
      <p:sp>
        <p:nvSpPr>
          <p:cNvPr id="1647" name="TextBox 17"/>
          <p:cNvSpPr/>
          <p:nvPr/>
        </p:nvSpPr>
        <p:spPr>
          <a:xfrm>
            <a:off x="2988000" y="1981080"/>
            <a:ext cx="3010680" cy="61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Knowledge and skills replicated</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92984"/>
                </a:solidFill>
                <a:latin typeface="Calibri"/>
              </a:rPr>
              <a:t>Exemplar of performance </a:t>
            </a:r>
            <a:endParaRPr b="0" lang="en-US" sz="1700" spc="-1" strike="noStrike">
              <a:solidFill>
                <a:srgbClr val="000000"/>
              </a:solidFill>
              <a:latin typeface="Arial"/>
            </a:endParaRPr>
          </a:p>
        </p:txBody>
      </p:sp>
      <p:sp>
        <p:nvSpPr>
          <p:cNvPr id="1648" name="TextBox 19"/>
          <p:cNvSpPr/>
          <p:nvPr/>
        </p:nvSpPr>
        <p:spPr>
          <a:xfrm>
            <a:off x="2975400" y="327672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000"/>
                </a:solidFill>
                <a:latin typeface="Calibri"/>
              </a:rPr>
              <a:t>Innovation + High Performance</a:t>
            </a:r>
            <a:endParaRPr b="0" lang="en-US" sz="1800" spc="-1" strike="noStrike">
              <a:solidFill>
                <a:srgbClr val="000000"/>
              </a:solidFill>
              <a:latin typeface="Arial"/>
            </a:endParaRPr>
          </a:p>
        </p:txBody>
      </p:sp>
      <p:sp>
        <p:nvSpPr>
          <p:cNvPr id="1649" name="TextBox 20"/>
          <p:cNvSpPr/>
          <p:nvPr/>
        </p:nvSpPr>
        <p:spPr>
          <a:xfrm>
            <a:off x="3107160" y="6172200"/>
            <a:ext cx="317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Calibri"/>
              </a:rPr>
              <a:t>Skill not mature or unsuccessful</a:t>
            </a:r>
            <a:endParaRPr b="0" lang="en-US" sz="1800" spc="-1" strike="noStrike">
              <a:solidFill>
                <a:srgbClr val="000000"/>
              </a:solidFill>
              <a:latin typeface="Arial"/>
            </a:endParaRPr>
          </a:p>
        </p:txBody>
      </p:sp>
      <p:sp>
        <p:nvSpPr>
          <p:cNvPr id="1650" name="TextBox 21"/>
          <p:cNvSpPr/>
          <p:nvPr/>
        </p:nvSpPr>
        <p:spPr>
          <a:xfrm>
            <a:off x="3081600" y="4419720"/>
            <a:ext cx="358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2d050"/>
                </a:solidFill>
                <a:latin typeface="Calibri"/>
              </a:rPr>
              <a:t>Solid, effective application + success</a:t>
            </a:r>
            <a:endParaRPr b="0" lang="en-US" sz="1800" spc="-1" strike="noStrike">
              <a:solidFill>
                <a:srgbClr val="000000"/>
              </a:solidFill>
              <a:latin typeface="Arial"/>
            </a:endParaRPr>
          </a:p>
        </p:txBody>
      </p:sp>
      <p:sp>
        <p:nvSpPr>
          <p:cNvPr id="1651" name="TextBox 22"/>
          <p:cNvSpPr/>
          <p:nvPr/>
        </p:nvSpPr>
        <p:spPr>
          <a:xfrm>
            <a:off x="6856920" y="51055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libri"/>
              </a:rPr>
              <a:t>Never demonst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49"/>
                                        </p:tgtEl>
                                        <p:attrNameLst>
                                          <p:attrName>style.visibility</p:attrName>
                                        </p:attrNameLst>
                                      </p:cBhvr>
                                      <p:to>
                                        <p:strVal val="visible"/>
                                      </p:to>
                                    </p:set>
                                    <p:anim calcmode="lin" valueType="num">
                                      <p:cBhvr additive="base">
                                        <p:cTn id="7" dur="500" fill="hold"/>
                                        <p:tgtEl>
                                          <p:spTgt spid="1649"/>
                                        </p:tgtEl>
                                        <p:attrNameLst>
                                          <p:attrName>ppt_x</p:attrName>
                                        </p:attrNameLst>
                                      </p:cBhvr>
                                      <p:tavLst>
                                        <p:tav tm="0">
                                          <p:val>
                                            <p:strVal val="#ppt_x"/>
                                          </p:val>
                                        </p:tav>
                                        <p:tav tm="100000">
                                          <p:val>
                                            <p:strVal val="#ppt_x"/>
                                          </p:val>
                                        </p:tav>
                                      </p:tavLst>
                                    </p:anim>
                                    <p:anim calcmode="lin" valueType="num">
                                      <p:cBhvr additive="base">
                                        <p:cTn id="8" dur="500" fill="hold"/>
                                        <p:tgtEl>
                                          <p:spTgt spid="16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50"/>
                                        </p:tgtEl>
                                        <p:attrNameLst>
                                          <p:attrName>style.visibility</p:attrName>
                                        </p:attrNameLst>
                                      </p:cBhvr>
                                      <p:to>
                                        <p:strVal val="visible"/>
                                      </p:to>
                                    </p:set>
                                    <p:anim calcmode="lin" valueType="num">
                                      <p:cBhvr additive="base">
                                        <p:cTn id="13" dur="500" fill="hold"/>
                                        <p:tgtEl>
                                          <p:spTgt spid="1650"/>
                                        </p:tgtEl>
                                        <p:attrNameLst>
                                          <p:attrName>ppt_x</p:attrName>
                                        </p:attrNameLst>
                                      </p:cBhvr>
                                      <p:tavLst>
                                        <p:tav tm="0">
                                          <p:val>
                                            <p:strVal val="#ppt_x"/>
                                          </p:val>
                                        </p:tav>
                                        <p:tav tm="100000">
                                          <p:val>
                                            <p:strVal val="#ppt_x"/>
                                          </p:val>
                                        </p:tav>
                                      </p:tavLst>
                                    </p:anim>
                                    <p:anim calcmode="lin" valueType="num">
                                      <p:cBhvr additive="base">
                                        <p:cTn id="14" dur="500" fill="hold"/>
                                        <p:tgtEl>
                                          <p:spTgt spid="165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48"/>
                                        </p:tgtEl>
                                        <p:attrNameLst>
                                          <p:attrName>style.visibility</p:attrName>
                                        </p:attrNameLst>
                                      </p:cBhvr>
                                      <p:to>
                                        <p:strVal val="visible"/>
                                      </p:to>
                                    </p:set>
                                    <p:anim calcmode="lin" valueType="num">
                                      <p:cBhvr additive="base">
                                        <p:cTn id="19" dur="500" fill="hold"/>
                                        <p:tgtEl>
                                          <p:spTgt spid="1648"/>
                                        </p:tgtEl>
                                        <p:attrNameLst>
                                          <p:attrName>ppt_x</p:attrName>
                                        </p:attrNameLst>
                                      </p:cBhvr>
                                      <p:tavLst>
                                        <p:tav tm="0">
                                          <p:val>
                                            <p:strVal val="#ppt_x"/>
                                          </p:val>
                                        </p:tav>
                                        <p:tav tm="100000">
                                          <p:val>
                                            <p:strVal val="#ppt_x"/>
                                          </p:val>
                                        </p:tav>
                                      </p:tavLst>
                                    </p:anim>
                                    <p:anim calcmode="lin" valueType="num">
                                      <p:cBhvr additive="base">
                                        <p:cTn id="20" dur="500" fill="hold"/>
                                        <p:tgtEl>
                                          <p:spTgt spid="164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47"/>
                                        </p:tgtEl>
                                        <p:attrNameLst>
                                          <p:attrName>style.visibility</p:attrName>
                                        </p:attrNameLst>
                                      </p:cBhvr>
                                      <p:to>
                                        <p:strVal val="visible"/>
                                      </p:to>
                                    </p:set>
                                    <p:anim calcmode="lin" valueType="num">
                                      <p:cBhvr additive="base">
                                        <p:cTn id="25" dur="500" fill="hold"/>
                                        <p:tgtEl>
                                          <p:spTgt spid="1647"/>
                                        </p:tgtEl>
                                        <p:attrNameLst>
                                          <p:attrName>ppt_x</p:attrName>
                                        </p:attrNameLst>
                                      </p:cBhvr>
                                      <p:tavLst>
                                        <p:tav tm="0">
                                          <p:val>
                                            <p:strVal val="#ppt_x"/>
                                          </p:val>
                                        </p:tav>
                                        <p:tav tm="100000">
                                          <p:val>
                                            <p:strVal val="#ppt_x"/>
                                          </p:val>
                                        </p:tav>
                                      </p:tavLst>
                                    </p:anim>
                                    <p:anim calcmode="lin" valueType="num">
                                      <p:cBhvr additive="base">
                                        <p:cTn id="26" dur="500" fill="hold"/>
                                        <p:tgtEl>
                                          <p:spTgt spid="164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51"/>
                                        </p:tgtEl>
                                        <p:attrNameLst>
                                          <p:attrName>style.visibility</p:attrName>
                                        </p:attrNameLst>
                                      </p:cBhvr>
                                      <p:to>
                                        <p:strVal val="visible"/>
                                      </p:to>
                                    </p:set>
                                    <p:anim calcmode="lin" valueType="num">
                                      <p:cBhvr additive="base">
                                        <p:cTn id="31" dur="500" fill="hold"/>
                                        <p:tgtEl>
                                          <p:spTgt spid="1651"/>
                                        </p:tgtEl>
                                        <p:attrNameLst>
                                          <p:attrName>ppt_x</p:attrName>
                                        </p:attrNameLst>
                                      </p:cBhvr>
                                      <p:tavLst>
                                        <p:tav tm="0">
                                          <p:val>
                                            <p:strVal val="#ppt_x"/>
                                          </p:val>
                                        </p:tav>
                                        <p:tav tm="100000">
                                          <p:val>
                                            <p:strVal val="#ppt_x"/>
                                          </p:val>
                                        </p:tav>
                                      </p:tavLst>
                                    </p:anim>
                                    <p:anim calcmode="lin" valueType="num">
                                      <p:cBhvr additive="base">
                                        <p:cTn id="32" dur="500" fill="hold"/>
                                        <p:tgtEl>
                                          <p:spTgt spid="16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2" name="Content Placeholder 5" descr=""/>
          <p:cNvPicPr/>
          <p:nvPr/>
        </p:nvPicPr>
        <p:blipFill>
          <a:blip r:embed="rId1"/>
          <a:stretch/>
        </p:blipFill>
        <p:spPr>
          <a:xfrm>
            <a:off x="665280" y="1122480"/>
            <a:ext cx="7826400" cy="4913280"/>
          </a:xfrm>
          <a:prstGeom prst="rect">
            <a:avLst/>
          </a:prstGeom>
          <a:ln w="0">
            <a:noFill/>
          </a:ln>
        </p:spPr>
      </p:pic>
      <p:sp>
        <p:nvSpPr>
          <p:cNvPr id="1653" name="Slide Number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AE97-DAC1-4558-8761-E717F31DB245}" type="slidenum">
              <a:rPr b="0" lang="en-US" sz="1200" spc="-1" strike="noStrike">
                <a:solidFill>
                  <a:srgbClr val="595959"/>
                </a:solidFill>
                <a:latin typeface="Times New Roman"/>
                <a:ea typeface="Times New Roman"/>
              </a:rPr>
              <a:t>&lt;number&gt;</a:t>
            </a:fld>
            <a:endParaRPr b="0" lang="en-US" sz="1200" spc="-1" strike="noStrike">
              <a:solidFill>
                <a:srgbClr val="000000"/>
              </a:solidFill>
              <a:latin typeface="Arial"/>
            </a:endParaRPr>
          </a:p>
        </p:txBody>
      </p:sp>
      <p:sp>
        <p:nvSpPr>
          <p:cNvPr id="1654" name="Rectangle 4"/>
          <p:cNvSpPr/>
          <p:nvPr/>
        </p:nvSpPr>
        <p:spPr>
          <a:xfrm>
            <a:off x="457200" y="228600"/>
            <a:ext cx="84582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ea typeface="Times New Roman"/>
              </a:rPr>
              <a:t>New Standards and Evaluation Systems</a:t>
            </a:r>
            <a:endParaRPr b="0" lang="en-US" sz="3800" spc="-1" strike="noStrike">
              <a:solidFill>
                <a:srgbClr val="000000"/>
              </a:solidFill>
              <a:latin typeface="Arial"/>
            </a:endParaRPr>
          </a:p>
        </p:txBody>
      </p:sp>
      <p:sp>
        <p:nvSpPr>
          <p:cNvPr id="1655" name="Oval 6"/>
          <p:cNvSpPr/>
          <p:nvPr/>
        </p:nvSpPr>
        <p:spPr>
          <a:xfrm>
            <a:off x="457200" y="1143000"/>
            <a:ext cx="2057400" cy="106668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Formative, Growth</a:t>
            </a:r>
            <a:endParaRPr b="0" lang="en-US" sz="1800" spc="-1" strike="noStrike">
              <a:solidFill>
                <a:srgbClr val="000000"/>
              </a:solidFill>
              <a:latin typeface="Arial"/>
            </a:endParaRPr>
          </a:p>
        </p:txBody>
      </p:sp>
      <p:sp>
        <p:nvSpPr>
          <p:cNvPr id="1656" name="Oval 7"/>
          <p:cNvSpPr/>
          <p:nvPr/>
        </p:nvSpPr>
        <p:spPr>
          <a:xfrm>
            <a:off x="2514600" y="1219320"/>
            <a:ext cx="1981080" cy="99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Data-driven</a:t>
            </a:r>
            <a:endParaRPr b="0" lang="en-US" sz="1800" spc="-1" strike="noStrike">
              <a:solidFill>
                <a:srgbClr val="000000"/>
              </a:solidFill>
              <a:latin typeface="Arial"/>
            </a:endParaRPr>
          </a:p>
        </p:txBody>
      </p:sp>
      <p:sp>
        <p:nvSpPr>
          <p:cNvPr id="1657" name="Oval 8"/>
          <p:cNvSpPr/>
          <p:nvPr/>
        </p:nvSpPr>
        <p:spPr>
          <a:xfrm>
            <a:off x="4495680" y="1219320"/>
            <a:ext cx="1981440" cy="914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ea typeface="Times New Roman"/>
              </a:rPr>
              <a:t>PD</a:t>
            </a:r>
            <a:endParaRPr b="0" lang="en-US" sz="1800" spc="-1" strike="noStrike">
              <a:solidFill>
                <a:srgbClr val="000000"/>
              </a:solidFill>
              <a:latin typeface="Arial"/>
            </a:endParaRPr>
          </a:p>
        </p:txBody>
      </p:sp>
      <p:sp>
        <p:nvSpPr>
          <p:cNvPr id="1658" name="Oval 9"/>
          <p:cNvSpPr/>
          <p:nvPr/>
        </p:nvSpPr>
        <p:spPr>
          <a:xfrm>
            <a:off x="6553080" y="1143000"/>
            <a:ext cx="1981440" cy="9907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oper Black"/>
                <a:ea typeface="Times New Roman"/>
              </a:rPr>
              <a:t>Al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5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5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5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Classroom Visit Suggestions</a:t>
            </a:r>
            <a:br>
              <a:rPr sz="4400"/>
            </a:br>
            <a:endParaRPr b="0" lang="en-US" sz="4400" spc="-1" strike="noStrike">
              <a:solidFill>
                <a:srgbClr val="000000"/>
              </a:solidFill>
              <a:latin typeface="Calibri"/>
            </a:endParaRPr>
          </a:p>
        </p:txBody>
      </p:sp>
      <p:sp>
        <p:nvSpPr>
          <p:cNvPr id="1660" name=""/>
          <p:cNvSpPr txBox="1"/>
          <p:nvPr/>
        </p:nvSpPr>
        <p:spPr>
          <a:xfrm>
            <a:off x="304920" y="1294920"/>
            <a:ext cx="4419360" cy="483084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our visits should be welcomed by teachers and students   as an opportunity to share their classroom with you</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ody language is positive and supportiv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reet the teacher-- eye contact and a smile</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t in an unobtrusive spot</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what the teacher and students are </a:t>
            </a:r>
            <a:r>
              <a:rPr b="0" i="1" lang="en-US" sz="2400" spc="-1" strike="noStrike">
                <a:solidFill>
                  <a:srgbClr val="000000"/>
                </a:solidFill>
                <a:latin typeface="Calibri"/>
              </a:rPr>
              <a:t>doing—look engaged</a:t>
            </a:r>
            <a:endParaRPr b="0" lang="en-US" sz="24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661" name=""/>
          <p:cNvSpPr txBox="1"/>
          <p:nvPr/>
        </p:nvSpPr>
        <p:spPr>
          <a:xfrm>
            <a:off x="4800600" y="1294920"/>
            <a:ext cx="4114800" cy="48308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pleasant demeano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ke notes unobtrusively</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lk around as appropriate looking at student work</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ngage with students as appropriat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bserve evidence of learning displayed around the room</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ve with a smile and a quiet thank you to the teacher</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Calibri"/>
              </a:rPr>
              <a:t>Written Feedback for Quick Visits</a:t>
            </a:r>
            <a:br>
              <a:rPr sz="4400"/>
            </a:br>
            <a:endParaRPr b="0" lang="en-US" sz="4400" spc="-1" strike="noStrike">
              <a:solidFill>
                <a:srgbClr val="000000"/>
              </a:solidFill>
              <a:latin typeface="Calibri"/>
            </a:endParaRPr>
          </a:p>
        </p:txBody>
      </p:sp>
      <p:sp>
        <p:nvSpPr>
          <p:cNvPr id="1663" name=""/>
          <p:cNvSpPr txBox="1"/>
          <p:nvPr/>
        </p:nvSpPr>
        <p:spPr>
          <a:xfrm>
            <a:off x="457200" y="1295280"/>
            <a:ext cx="8229600" cy="4648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 Provide the conten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 Include alignment to standard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State the effective practice observed</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 Give supporting evidence and detail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bout 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 Finish off with Thank You!</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6. Follow-up with a written note or email</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Sample Note</a:t>
            </a:r>
            <a:endParaRPr b="0" lang="en-US" sz="4400" spc="-1" strike="noStrike">
              <a:solidFill>
                <a:srgbClr val="000000"/>
              </a:solidFill>
              <a:latin typeface="Calibri"/>
            </a:endParaRPr>
          </a:p>
        </p:txBody>
      </p:sp>
      <p:sp>
        <p:nvSpPr>
          <p:cNvPr id="1665" name=""/>
          <p:cNvSpPr txBox="1"/>
          <p:nvPr/>
        </p:nvSpPr>
        <p:spPr>
          <a:xfrm>
            <a:off x="304920" y="990720"/>
            <a:ext cx="8534160" cy="4830480"/>
          </a:xfrm>
          <a:prstGeom prst="rect">
            <a:avLst/>
          </a:prstGeom>
          <a:noFill/>
          <a:ln w="0">
            <a:noFill/>
          </a:ln>
        </p:spPr>
        <p:txBody>
          <a:bodyPr anchor="t">
            <a:normAutofit fontScale="92000"/>
          </a:bodyPr>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John</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Mary</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e: 5/2/08</a:t>
            </a:r>
            <a:endParaRPr b="0" lang="en-US" sz="2800" spc="-1" strike="noStrike">
              <a:solidFill>
                <a:srgbClr val="000000"/>
              </a:solidFill>
              <a:latin typeface="Calibri"/>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my visit I observed:</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were working in partners making predictions about how factors of light, water, and touch would effect plant growth.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 grade level science activity based on NCES.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ticulated clear goals for students by telling them what they would learn and posting outcomes. </a:t>
            </a:r>
            <a:endParaRPr b="0" lang="en-US" sz="2800" spc="-1" strike="noStrike">
              <a:solidFill>
                <a:srgbClr val="000000"/>
              </a:solidFill>
              <a:latin typeface="Calibri"/>
            </a:endParaRPr>
          </a:p>
          <a:p>
            <a:pPr marL="315360" indent="-31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 frequently referred to the charts/rubrics outlining their activity. This helped them stay on task.</a:t>
            </a:r>
            <a:endParaRPr b="0" lang="en-US" sz="2800" spc="-1" strike="noStrike">
              <a:solidFill>
                <a:srgbClr val="000000"/>
              </a:solidFill>
              <a:latin typeface="Calibri"/>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6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ert a short lesson that can be used to record The “Quick Vis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ignm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rateg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act</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1"/>
          <p:cNvSpPr/>
          <p:nvPr/>
        </p:nvSpPr>
        <p:spPr>
          <a:xfrm>
            <a:off x="533520" y="304920"/>
            <a:ext cx="8001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your classroom observations on what the </a:t>
            </a:r>
            <a:r>
              <a:rPr b="1" lang="en-US" sz="2800" spc="-1" strike="noStrike">
                <a:solidFill>
                  <a:srgbClr val="ff0000"/>
                </a:solidFill>
                <a:latin typeface="Calibri"/>
              </a:rPr>
              <a:t>student is doing </a:t>
            </a:r>
            <a:r>
              <a:rPr b="0" lang="en-US" sz="2800" spc="-1" strike="noStrike">
                <a:solidFill>
                  <a:srgbClr val="000000"/>
                </a:solidFill>
                <a:latin typeface="Calibri"/>
              </a:rPr>
              <a:t>rather than on what the teacher is doing. This guide helps the observer to </a:t>
            </a:r>
            <a:r>
              <a:rPr b="1" lang="en-US" sz="2800" spc="-1" strike="noStrike">
                <a:solidFill>
                  <a:srgbClr val="ff0000"/>
                </a:solidFill>
                <a:latin typeface="Calibri"/>
              </a:rPr>
              <a:t>focus on students’ thinking, their ideas, understandings, misconceptions and their work during classroom observations.</a:t>
            </a:r>
            <a:r>
              <a:rPr b="1" lang="en-US" sz="2800" spc="-1" strike="noStrike">
                <a:solidFill>
                  <a:srgbClr val="000000"/>
                </a:solidFill>
                <a:latin typeface="Calibri"/>
              </a:rPr>
              <a:t> </a:t>
            </a:r>
            <a:r>
              <a:rPr b="0" lang="en-US" sz="2800" spc="-1" strike="noStrike">
                <a:solidFill>
                  <a:srgbClr val="000000"/>
                </a:solidFill>
                <a:latin typeface="Calibri"/>
              </a:rPr>
              <a:t>It asks the observer to look for and record evidence of how students are making sense of the subject, what processes they are using, how they reason, and what approach they use to attack and/or solve problems. It also asks observers to look for what misconceptions students hold and where those misconceptions origin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67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are students making sense of the conten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approach are students using to attack and/or solve problems?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misconceptions do students hold and where do those misconceptions originate?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1"/>
          <p:cNvSpPr/>
          <p:nvPr/>
        </p:nvSpPr>
        <p:spPr>
          <a:xfrm>
            <a:off x="457200" y="60948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server also needs to </a:t>
            </a:r>
            <a:r>
              <a:rPr b="1" lang="en-US" sz="2800" spc="-1" strike="noStrike">
                <a:solidFill>
                  <a:srgbClr val="ff0000"/>
                </a:solidFill>
                <a:latin typeface="Calibri"/>
              </a:rPr>
              <a:t>focus on how students interact with each other.</a:t>
            </a:r>
            <a:r>
              <a:rPr b="0" lang="en-US" sz="2800" spc="-1" strike="noStrike">
                <a:solidFill>
                  <a:srgbClr val="ff0000"/>
                </a:solidFill>
                <a:latin typeface="Calibri"/>
              </a:rPr>
              <a:t> </a:t>
            </a:r>
            <a:r>
              <a:rPr b="0" lang="en-US" sz="2800" spc="-1" strike="noStrike">
                <a:solidFill>
                  <a:srgbClr val="000000"/>
                </a:solidFill>
                <a:latin typeface="Calibri"/>
              </a:rPr>
              <a:t>Do they effectively communicate and listen to each other and use each other as resources? Are all students involved and active in the tasks? When students seek authority over whether a solution is correct, do they rely on others, do they ask the teacher, or can they reason for themselves using their knowledge of the subject and logic? Are all students engaged and do they take risks and share? The observer should then use that information as the basis for discussion with the teacher during the post-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fore we begin, please go to:</a:t>
            </a:r>
            <a:endParaRPr b="0" lang="en-US" sz="4400" spc="-1" strike="noStrike">
              <a:solidFill>
                <a:srgbClr val="000000"/>
              </a:solidFill>
              <a:latin typeface="Calibri"/>
            </a:endParaRPr>
          </a:p>
        </p:txBody>
      </p:sp>
      <p:sp>
        <p:nvSpPr>
          <p:cNvPr id="1615" name=""/>
          <p:cNvSpPr txBox="1"/>
          <p:nvPr/>
        </p:nvSpPr>
        <p:spPr>
          <a:xfrm>
            <a:off x="380880" y="1295280"/>
            <a:ext cx="8382240" cy="46785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entation</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2"/>
              </a:rPr>
              <a:t>https://mxweb3.media-x.com/home/ncval/demo/</a:t>
            </a:r>
            <a:endParaRPr b="0" lang="en-US" sz="32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name: Principaldemo (any number 1-4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12345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OOK FOR</a:t>
            </a:r>
            <a:endParaRPr b="0" lang="en-US" sz="4400" spc="-1" strike="noStrike">
              <a:solidFill>
                <a:srgbClr val="000000"/>
              </a:solidFill>
              <a:latin typeface="Calibri"/>
            </a:endParaRPr>
          </a:p>
        </p:txBody>
      </p:sp>
      <p:sp>
        <p:nvSpPr>
          <p:cNvPr id="1673" name=""/>
          <p:cNvSpPr txBox="1"/>
          <p:nvPr/>
        </p:nvSpPr>
        <p:spPr>
          <a:xfrm>
            <a:off x="457200" y="1371240"/>
            <a:ext cx="8229600" cy="4754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Do students effectively communicate and listen to each other and use each other as resourc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re all students involved and active in the task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en students seek authority over whether a solution is correct, do they rely on others, do they ask the teacher, or can they reason for themselves using their knowledge of the subject and logi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3"/>
          <p:cNvSpPr/>
          <p:nvPr/>
        </p:nvSpPr>
        <p:spPr>
          <a:xfrm>
            <a:off x="609480" y="228600"/>
            <a:ext cx="7848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ff0000"/>
                </a:solidFill>
                <a:latin typeface="Calibri"/>
              </a:rPr>
              <a:t>focus on student thinking and student work </a:t>
            </a:r>
            <a:r>
              <a:rPr b="0" lang="en-US" sz="2800" spc="-1" strike="noStrike">
                <a:solidFill>
                  <a:srgbClr val="000000"/>
                </a:solidFill>
                <a:latin typeface="Calibri"/>
              </a:rPr>
              <a:t>sets the stage for a dialogue between the teacher and observer.  During the pre-conference the observer might work with the teacher to decide on which standard they should focus. The observer might want to show the coach the particular questions he or she will be focusing on during the classroom observation or the observer and teacher might use the questions as a guide to planning the lesson that will be observed.   It is also possible that the observer may not directly ask the questions in the guide but use them to assess the teacher’s thinking about the lesson they will be teaching</a:t>
            </a: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inue with lesson and have principals record additional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m to talk around their table to see what common thing they recorded about the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the question:  “What did you observe that showed how students interact with each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678"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 </a:t>
            </a:r>
            <a:r>
              <a:rPr b="1" lang="en-US" sz="4400" spc="-1" strike="noStrike">
                <a:solidFill>
                  <a:srgbClr val="ff0000"/>
                </a:solidFill>
                <a:latin typeface="Calibri"/>
              </a:rPr>
              <a:t>(change as needed)</a:t>
            </a:r>
            <a:endParaRPr b="0" lang="en-US" sz="4400" spc="-1" strike="noStrike">
              <a:solidFill>
                <a:srgbClr val="000000"/>
              </a:solidFill>
              <a:latin typeface="Calibri"/>
            </a:endParaRPr>
          </a:p>
        </p:txBody>
      </p:sp>
      <p:sp>
        <p:nvSpPr>
          <p:cNvPr id="1617"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8"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0" name=""/>
          <p:cNvGraphicFramePr/>
          <p:nvPr/>
        </p:nvGraphicFramePr>
        <p:xfrm>
          <a:off x="228600" y="1600200"/>
          <a:ext cx="8686800" cy="4419720"/>
        </p:xfrm>
        <a:graphic>
          <a:graphicData uri="http://schemas.openxmlformats.org/drawingml/2006/table">
            <a:tbl>
              <a:tblPr/>
              <a:tblGrid>
                <a:gridCol w="2390760"/>
                <a:gridCol w="6296040"/>
              </a:tblGrid>
              <a:tr h="636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Element 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Teachers lead in their classroom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83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5"/>
                          </a:solidFill>
                          <a:latin typeface="Calibri"/>
                          <a:ea typeface="Calibri"/>
                        </a:rPr>
                        <a:t>Developing</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s assessment data available and refers to it to understand the skills and abilities of stud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Accesses data from district assessment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Has written classroom management plan available and poste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inks lessons to prior learning</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s college display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arifies that passing is necessary for graduation</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ssumes responsibility for student achievement/proficiency/growth</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eaa2e"/>
                </a:solidFill>
                <a:latin typeface="Calibri"/>
              </a:rPr>
              <a:t>Standard I</a:t>
            </a:r>
            <a:br>
              <a:rPr sz="36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2" name=""/>
          <p:cNvGraphicFramePr/>
          <p:nvPr/>
        </p:nvGraphicFramePr>
        <p:xfrm>
          <a:off x="228600" y="1447920"/>
          <a:ext cx="8686800" cy="5048280"/>
        </p:xfrm>
        <a:graphic>
          <a:graphicData uri="http://schemas.openxmlformats.org/drawingml/2006/table">
            <a:tbl>
              <a:tblPr/>
              <a:tblGrid>
                <a:gridCol w="2392200"/>
                <a:gridCol w="62946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Proficien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a variety of formative and summative assessments to evaluate student progress and guide instruction</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ata analysis guides lesson plans, activities, and group assignm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mmunicates vision to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Enforces the written classroom management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Reshapes instruction to fit needs of individual stud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Provides extra assistance to students as needed</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fers to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Relates instruction to preparation for lif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Continually encourages students to graduate and plan for college/care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rrelates best instructional practices with progress of students to ensure student college and career readin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Generates data driven interventions to support student mastery of skills and concepts taugh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b933"/>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4" name=""/>
          <p:cNvGraphicFramePr/>
          <p:nvPr/>
        </p:nvGraphicFramePr>
        <p:xfrm>
          <a:off x="304920" y="1676520"/>
          <a:ext cx="8534160" cy="4190760"/>
        </p:xfrm>
        <a:graphic>
          <a:graphicData uri="http://schemas.openxmlformats.org/drawingml/2006/table">
            <a:tbl>
              <a:tblPr/>
              <a:tblGrid>
                <a:gridCol w="2349360"/>
                <a:gridCol w="6184800"/>
              </a:tblGrid>
              <a:tr h="4190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Accompl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ortfolios, rubrics, and other types of assessments to evaluate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Uses protocols for collaborative activiti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ncludes real‐life situations and 21st century skills in lesson plan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scusses impact of current event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rovides leadership opportunities in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Vision is communicated/modeled to produce student leaders in the classroom</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Differentiates instruction and assignments based on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reates processes and procedures to align best practices and data driven interventions to facilitate replication of best practices among pe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3b933"/>
                </a:solidFill>
                <a:latin typeface="Calibri"/>
              </a:rPr>
              <a:t>Standard I</a:t>
            </a:r>
            <a:br>
              <a:rPr sz="4000"/>
            </a:br>
            <a:r>
              <a:rPr b="1" lang="en-US" sz="3600" spc="-1" strike="noStrike">
                <a:solidFill>
                  <a:srgbClr val="000000"/>
                </a:solidFill>
                <a:latin typeface="Calibri"/>
              </a:rPr>
              <a:t>Teachers Demonstrate Leadership </a:t>
            </a:r>
            <a:endParaRPr b="0" lang="en-US" sz="3600" spc="-1" strike="noStrike">
              <a:solidFill>
                <a:srgbClr val="000000"/>
              </a:solidFill>
              <a:latin typeface="Calibri"/>
            </a:endParaRPr>
          </a:p>
        </p:txBody>
      </p:sp>
      <p:graphicFrame>
        <p:nvGraphicFramePr>
          <p:cNvPr id="1626" name=""/>
          <p:cNvGraphicFramePr/>
          <p:nvPr/>
        </p:nvGraphicFramePr>
        <p:xfrm>
          <a:off x="304920" y="1371600"/>
          <a:ext cx="8534160" cy="5048280"/>
        </p:xfrm>
        <a:graphic>
          <a:graphicData uri="http://schemas.openxmlformats.org/drawingml/2006/table">
            <a:tbl>
              <a:tblPr/>
              <a:tblGrid>
                <a:gridCol w="2349360"/>
                <a:gridCol w="6184800"/>
              </a:tblGrid>
              <a:tr h="5048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Distinguished</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nalyzes data with colleagues to make decisions about student needs and instructional planning</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intains accurate records of every student's progres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stablishes procedures to ensure that all students participate in discussions and share roles in group work</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Facilitates workshops at the school level to ensure all students succeed by using best practices connected to student da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eads school wide workshops on how to differentiate instruction and assignments based on data and/or how to create a safe and orderly learning environmen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emonstrates processes and procedures to align best practices and data driven interventions to colleagues and coaches peers for implementation of best practice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eads school and district PLCs in collaborative work to support teachers and improve effectivene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7"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1-03T14:15:52Z</dcterms:modified>
  <cp:revision>90</cp:revision>
  <dc:subject/>
  <dc:title>RESA Implementation Sessions Day 2 Process</dc:title>
</cp:coreProperties>
</file>